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EBB-DADB-4151-AE6C-AE903998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BE8-742F-45CE-9755-98C9FD62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8C4FC-916A-4B4A-8EF7-2EA5C33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A7B8-3A9A-451F-8001-FFAF3565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337BB-5999-4940-8720-C507A926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92728-8048-410E-A0BB-0880550C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1F6D9-43C8-4FE5-89E0-3F7E48A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E36C-DCDB-4911-8227-180BFC7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2A269-6658-416F-8C81-BB7C7D93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CFCC7-69B9-4EB4-9565-4EA90824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2B43C-A009-4BDC-81F7-22730FB7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CBCA5-3794-4A89-ACDC-BBB0E812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747-4956-45FC-9FA9-0B9656A6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F23E4-7AB7-46EE-A70D-99F36C4E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13BBE-2F42-4689-A97C-EBE0DA2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7789E-16CD-4FA6-B68F-F36514C5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B49C-E63E-4074-959A-24DCE604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89A69-C1C2-4B13-A338-1444D442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41A18-EF97-4B29-A93A-EF57C40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A43DA-9E03-4D9C-9B88-DA75F4B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221C1-059D-432E-A436-EA985A3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6714D-3755-4C4D-B511-37A6606D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0A460-29DE-4DB6-BCC3-BE7DB2BB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A38-E687-4A02-A848-53D4F37A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C3981-CD54-4302-8F3E-A8CE60FE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209BF-26E2-4248-B2CD-2F4F08A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E9A7D-46EC-494F-8A2F-1BDABABD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57070-76EE-4A9C-BE40-7D119FD6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2AD9-C16B-412A-9C36-C1E453E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17F1-9F91-4444-95B2-6F116EEE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716F-B70A-4DF1-915E-96E4A03F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FA836-8625-4324-99D9-FC206C1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604C-8FED-4086-B15A-2E7884A3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D1810-D8C3-4A43-8E54-B374CC0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4D68-ACC8-49F5-954B-C352E2F2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76396-C5F1-4928-933A-1E963A5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47D29-E1FA-482C-B240-BC5E77FC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74EF7-4D5A-4109-AAA4-FC046FAB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93963-743E-4136-84A2-9621D388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54E21-4337-4D6F-9376-2E9508EF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A4213-63F4-485D-B679-18B24A5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F0572-DBE2-4E41-BDCD-5096CB2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A7D79-D502-471B-AB30-F60B3075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CBF36-3E5D-4E85-9535-0B51E1E3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4E36A-FFA4-4BE7-8786-0892649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72AD-07E7-4DC1-BA80-654C7487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51D54-5EBD-4E21-90E4-1DA3E85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57293-E4B7-4D29-9955-B095580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FAEDE-7569-41EB-AABB-F2C10809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8147D-A9E9-493D-BEFC-FCEB6EF1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EC8D5-90F1-4290-9930-8F7ADDB2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9049-543C-47A6-9788-390D366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793-C037-4B04-810B-E2DF012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5604-5FC7-4CB5-8F52-3A0D9FB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F869-2E7D-4357-BF84-E5A9F7C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ED33-25FD-4B0A-891B-8B972FC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F32-2EEB-430E-8361-133F228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6053-5667-4C2D-A479-0048836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0F55-60B3-41EC-A9AE-F941B88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47CC-236C-4CD7-85C6-5AD04346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D8D0-DA4C-404C-8BDB-E9FC3539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306F-CD3B-45C4-BEFE-D09C907A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7440-A23E-466B-B9B2-37994060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4802-C044-48D6-806C-21050A3D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250A-DC52-4380-A7C0-75549A5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9327-C358-4B59-A768-BB251B23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C983-F8EE-45D2-8B7D-2604E00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70B-A0D7-4C15-819A-10DDAF0B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E999-73A8-4E5B-B149-FF8CA022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1ADB-B042-4096-B2E9-163008BD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DD4C-6D74-46DF-8576-FA6591B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6727-432A-4DA3-8DA6-440B940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C233-B7B5-486D-8FA8-180EE897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1524-70FB-4624-A090-244DA129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87FD-4F80-4B1E-B2FE-929A04D7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52F3-6CEA-477E-9628-BC0E8DD3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367F-88A0-4013-9588-A5CD7A5D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DD9E-C317-4E07-933D-61DFAE9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200-5B97-4604-A766-FB71EEC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F03F-288D-475F-BDF6-80483CF8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6759-F3E6-4EC0-BC21-715BCFD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51FE-EBE2-4857-BC5F-F6DE494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A9B9-DDC1-4C7C-9CC3-8D812CE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106F-E88F-49A7-AC1F-36ACFAC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9003-9FBD-41EE-99C1-21FB7AF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A191-65F5-40CE-ABDE-08F0425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F4D5-FBDE-4F1B-AD1C-FB0D7C75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7A03-0307-4B17-AAD3-51B34090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ABA6-3898-48C2-A0E2-1EC4B18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5F3-E0D2-4DB6-8720-220BD121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E32B-CC8D-4D80-A0DB-5094DDF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420AC-1424-4028-99D4-BDF182E9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775DA-B379-4304-A78B-5977EE9E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D537B-C8BA-4828-94CE-4C728E7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2DE0-E40F-4BB9-9ACE-59D6A93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747E-4606-4FF4-B378-1F812D08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123E-657B-41E1-AFDA-CCFAC21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DB11-926A-4312-A073-55174C6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DBF8-2CBD-404D-931E-ADEE367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80E1B-7AE2-411A-823B-A4DCE4E2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0AB-D6CF-4A72-944D-E920190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EDD6-7D08-4987-9CBB-8B2C429E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124E6-4BC6-4356-BF12-6B3F592C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6877-91D8-47A7-8502-EEAC475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3B1D-59CC-4F57-A0E1-9E3EF67D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FBBC-FCBE-4781-A323-4B21CA6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F535-1E87-4188-8221-AB15053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1E5CB-0643-44FD-9639-A1EA25A6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B31FE-B05A-4814-8EB8-3C3337D7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D346-8B52-4B07-BFA8-45C89ED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3DE5-883E-4B6B-B072-44C6593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221-F04F-479E-ABC6-9143A8B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3B3F0-26F4-4FF7-B831-36707B8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92E19-4220-41FA-AC5D-AD56E16D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6BF8-9296-4FEF-B9AB-AEB9812B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D203F-9D6E-49EE-9EBE-D6F96DA2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A59D-1386-4B93-A46D-22A86541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BD46-0733-4B5A-8D38-A533DBAD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D138-2E40-4505-A9B5-14343817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81CC-423A-40BC-8F87-0C065F3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29D9-7655-462C-852A-F28471D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CC7A-B6C8-4BE8-AE63-E8424BA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782-CB16-4950-AC61-6995E7B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4FBC-072F-4685-9680-48F186E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2A5C9-E2C1-4AC8-A57C-0417C43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5CD71-D84E-4E9D-9025-F858880D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7FAA-7D41-4B53-A064-E81529F2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EDB3-9011-4546-9E7F-92540914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B2483-CF04-4F35-9CD1-F83771B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06FBC-C3B9-4E76-B7B9-05FE8AE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68C9-5753-4885-904D-841565F4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EF2DB-1510-49CA-A2D5-74ABC4C3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2F1EB-ACF0-4669-9F96-CDF5C4C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858-F7D6-4164-9CD9-3943BAF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0296A-44D7-4A13-AE7D-37E81F0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3702-5A98-49FE-9217-1A80481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6D19-6E70-4DDC-847B-9E6EDAD1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261CD-10CE-4D60-B048-34C92F8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106B-D5BA-499E-91AB-22870C4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AFEF-1FA0-4359-9268-3DB1658B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DBCA-8095-44D5-9663-EA11CA19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1E6B2-DF86-48B8-BEDA-36DC2B71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4BCBA-1F61-47BF-A9D9-426829D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6D77-0A97-43A3-8D99-CCD031F9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784-6763-4F3B-B70B-9B26C94A01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A7C8-AD7D-4243-B721-CA2E4D91FD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B353-6C0C-4B4E-9488-B60014C5F0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82D3-CCC3-461C-802B-DDAAF87508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C7F-86CF-4107-A531-AB14DF151F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6A69-E423-4864-B2CE-B2E2D05FFB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C05C-42B7-48D8-A68E-D86A97000A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EAC2-8A5F-4BA5-9C81-970ABF8EA0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47A1-BC0F-466B-B2FC-AF089D4139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8A12-036C-405A-AED1-EAA02D6382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0C81-13A2-4111-83C1-A2B5097EF3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C250-535A-4CE7-B971-1D6FF93535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 Oslavujme zvu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ujme zvučne Hospodi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kiaľ sme tu na zemi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ujme vďačne jeho Sy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akujme mu piesň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ý j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 úpri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ym ľuďom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, jasajm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u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 nás do nebies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ý j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orečme 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ernosť j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a nikdy nem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jme na slávu Všemocn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ne chvály s nadš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08:45Z</dcterms:modified>
  <cp:revision>8</cp:revision>
  <dc:subject/>
  <dc:title>Je veľký náš Pán, on slávy je Kráľ Nech do všetkých strán  spev vrúcnych znie chvál.</dc:title>
</cp:coreProperties>
</file>